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8C3B1-D294-4ABE-B2A2-D19DC3F6A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28DD5-93E4-425E-9DAF-162980DA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3F870-3E53-4161-A7EF-A0A4CA5BC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F8C6-D53C-4B8A-8C88-F558D3249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12465-6BBF-4F04-9B3D-A972232F1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F1F87-867F-4468-A8FD-006E27BF2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1C267-44C9-4D05-859D-A0C41F2D5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14516-9B00-4000-848D-8BFA1A329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055C3-BB1D-4CB4-87FD-4DECC77BC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AFCAD-17E7-442D-9EDF-4E85C81E8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E4135-CC3E-45F3-8C97-EA5AF6225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434A5-47F0-4B7F-8257-81DA22B07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7ABEA-DDEC-4BDC-B06B-4F9ACD7F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A7880-0141-4E89-809A-3ECEED8E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A1377-1E00-4732-A445-64E044CA9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9DB25-CC37-4C57-ADDE-680CA992D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BEDB6-D22F-47EB-A2DC-DA8385AA8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833C-9194-485C-892E-F360F341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CEF8-3E03-43E5-A641-741EAA25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35A9-F35E-45B5-864D-BAF009CE8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87140-82B0-4332-8EAB-22CFCD64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4524-EF8A-4D89-B4B1-47A72320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3D01-6607-4640-A1E8-45634B80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9260A-F8A1-4630-9D9F-50135C9EF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9F97-1EB0-4E41-94CD-7B44B7623E8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48CF-FA9E-47CB-A215-88EFEADD856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a:rPr>
              <a:t>English</a:t>
            </a:r>
            <a:endParaRPr b="1" lang="en-US" sz="6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Oct. 6</a:t>
            </a:r>
            <a:endParaRPr b="0"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 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urnal respon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tch mov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7-questions</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Emile Janz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his relationship to Arch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8</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urnal respons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Arial"/>
              </a:rPr>
              <a:t>Homework-Read ch. 9</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13:18Z</dcterms:created>
  <dc:creator>VMS</dc:creator>
  <dc:description/>
  <dc:language>en-US</dc:language>
  <cp:lastModifiedBy>VMS</cp:lastModifiedBy>
  <dcterms:modified xsi:type="dcterms:W3CDTF">2009-10-06T17:28:13Z</dcterms:modified>
  <cp:revision>3</cp:revision>
  <dc:subject/>
  <dc:title>English</dc:title>
</cp:coreProperties>
</file>